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F51-575B-4853-A633-5071791B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01E-8113-46B6-955D-DEBCF62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5CF-74F3-4A35-BD27-245D53BF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13B0-A9F8-4A05-B63C-7D3C7CC1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283-F3E3-456B-B5A8-0C662A41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914-86B6-4FAD-AA5C-39F9BEAD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866-5F8E-4EFC-A2BD-89E26BCC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6F7-209A-4178-B23B-5A9896AB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840-8D6C-4513-9DDF-E5513DCF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45C-5BA4-4873-BCD3-8D8CA97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310-3ADE-4051-8C55-B584B83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469-C417-4F74-BAC1-D6FBA931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B October 9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oduction to Exc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8720" y="6248520"/>
            <a:ext cx="390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EE06-A0C5-4491-9762-C6A1834A27B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447920"/>
            <a:ext cx="784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314360"/>
            <a:ext cx="777240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1028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447920"/>
            <a:ext cx="784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6324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n City Summerlin Computer Club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2209680"/>
            <a:ext cx="6400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crosoft Exc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Bu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 9, 200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ormatting Cell Conten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81080" y="152388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 Men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at toolbar butt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ld, Italics, Under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idlines around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nts (Face, size) e.g. Arial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rs and patter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al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form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mon Operations in Formula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 (+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C5+2 , = F20+F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tract (-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C7-1, =E15-E14-E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y (*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A12*4, =D13*G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(/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Q17/12, =C4/D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nentiate (^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T5^3 (T5*T5*T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(%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5% (.2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atenate (&amp;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A3&amp;”yea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mmonly Used Fun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04760" y="152388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(&lt;range&gt;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(&lt;cell&gt;, digi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(&lt;range&gt;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 (&lt;range&gt;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(&lt;range&gt;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(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cel Help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Menu /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ve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Creating Formulas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Entering Formul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 Worksheet Function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he Fx (Paste Function) Toolbar Butt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 1 – Home Purchas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Description of Items,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totals for each major categ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ustrates various formatting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for tax records (bas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ful for tracking later improv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 2 – Retirement Fina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ple Evaluating Annutizing and Moving to an Independent Living Fac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s Mix of Income Str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s Draw-down of Interest Earn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s in Inf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 3 – Contact Lis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904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Excel as a simple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 column is a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 Name and First Name colum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ly hidd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ion of S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ample 4 – Mortgage Paydow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heets –  1Variable and 1 Fix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fixed payment and rate lo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allows for Rate Adjust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lustrates Pmt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-year table showing payof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cluding actual payment vs calculat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ther Sample Spreadshee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se, BP and Other Health Rea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f Sc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obile Lo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n Workshop / Q and 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Exc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here to Find the Material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n City Summer Computer Club Websi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scscc.com/smn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eminar Agend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 Spreadsheet Bas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1 – SC Home Purc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2 – Retirement Fin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-- Bio Break (~15 mi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3 – Contact List / Ros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4 – Mortgage Pay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Workshop / Q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 of Exce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use for modeling a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 simple sheets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 is very “smart” in helping lay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way for non-programmers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ir PC to do “custom”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s hold both data and formul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arly Spreadshee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cal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e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 Brickl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198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-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/M, 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198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tus 1-2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ch Kap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19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Imp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hton-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198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cel Spreadsheet Basics -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tangular array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umns identif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t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A, B, C,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s identifi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, 2, 3,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section of a Row and Column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Cell has an “address” (column, row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A5, C31, Q1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xcel Spreadsheet Basics -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lls can contai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: 50, 75.375, 20%, $3,595.95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: “Tom”, “Mary”, “Gasoline”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s: May 3, 2001 , 05/03/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: 01:45:00 PM , 13:45: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as: =B3+B5, =C25 / 15, =Sum(D8:G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ving Around in Exc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on a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sor ke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eft, right, up, down arrow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eUp, PageDown, 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rl+Home, Ctrl+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rl+(left, right, up, down arrow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Editing in Excel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cell range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entire r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entire colum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py / Cut / Paste a range of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 rows, colum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column width, row he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15:44:30Z</dcterms:created>
  <dc:creator>Tom Burt</dc:creator>
  <dc:description/>
  <dc:language>en-US</dc:language>
  <cp:lastModifiedBy>Tom Burt</cp:lastModifiedBy>
  <dcterms:modified xsi:type="dcterms:W3CDTF">2001-10-05T22:22:01Z</dcterms:modified>
  <cp:revision>97</cp:revision>
  <dc:subject/>
  <dc:title>PowerPoint Presentation</dc:title>
</cp:coreProperties>
</file>