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FE04-3ED7-4006-A90A-E4729A729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3333cc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A829-56CC-4CF1-AD46-33D8B656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3333cc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FBA3-108B-4D03-825A-8B0E15AD2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3333cc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662F-ECA6-481D-9B24-2034FCD74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3333cc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E25A-1F4F-4409-9D06-57C8B424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3333cc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29DD-631E-4824-A3B7-17961B14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3333cc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EF06-446A-4451-9AC0-30062FFA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3333cc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C417-13AC-475E-8C41-D262F809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0254-A5A1-4B24-879A-30CA6AA8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3333cc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2BE2-8812-4A84-8C27-C48973D6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3333cc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C166-07FA-4A70-8135-E4D9595E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3333cc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E033-6548-4CBE-A328-265CECD4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Arial"/>
              </a:rPr>
              <a:t>Click to edit the title text format</a:t>
            </a:r>
            <a:endParaRPr b="1" lang="en-US" sz="3600" spc="-1" strike="noStrike" u="sng">
              <a:solidFill>
                <a:srgbClr val="3333cc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ember 19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SCC - Tom Bu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51F4-65DA-47DD-BE77-CB9C72530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usicmatch.com/" TargetMode="External"/><Relationship Id="rId2" Type="http://schemas.openxmlformats.org/officeDocument/2006/relationships/hyperlink" Target="http://www.winamp.com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Sun City Summerlin Computer Club</a:t>
            </a:r>
            <a:br>
              <a:rPr sz="2800"/>
            </a:br>
            <a:br>
              <a:rPr sz="2800"/>
            </a:b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Digital Music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IG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December 19, 2002</a:t>
            </a:r>
            <a:endParaRPr b="1" lang="en-US" sz="3600" spc="-1" strike="noStrike" u="sng">
              <a:solidFill>
                <a:srgbClr val="3333cc"/>
              </a:solidFill>
              <a:uFillTx/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00200" y="48006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m Bu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F976-D6BA-4C84-AC4E-C87B14FD349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Arial"/>
              </a:rPr>
              <a:t>Agenda</a:t>
            </a:r>
            <a:endParaRPr b="1" lang="en-US" sz="3600" spc="-1" strike="noStrike" u="sng">
              <a:solidFill>
                <a:srgbClr val="3333cc"/>
              </a:solidFill>
              <a:uFillTx/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240" y="2057040"/>
            <a:ext cx="70866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 &amp; General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ation (45 m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8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Amp 3 Media Player - Quick Look / De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8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Your PC In Your Home Entertainment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ring Hook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ying CDs and Music F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ing Your TV As a Moni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discussion, questions and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255A-6AC5-4086-BB69-16423A8B1C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Arial"/>
              </a:rPr>
              <a:t>WinAmp3 Quick Look</a:t>
            </a:r>
            <a:endParaRPr b="1" lang="en-US" sz="3600" spc="-1" strike="noStrike" u="sng">
              <a:solidFill>
                <a:srgbClr val="3333cc"/>
              </a:solidFill>
              <a:uFillTx/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828800" y="1980720"/>
            <a:ext cx="59436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winamp.com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ce Is Right (Free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e P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s Most Music File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Music Library and Single File MP3 Ta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Play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recording cap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ilt In CD Bu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3CCA-34E5-482E-BCE8-481D0DE20E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Arial"/>
              </a:rPr>
              <a:t>PC In Entertainment Center</a:t>
            </a:r>
            <a:endParaRPr b="1" lang="en-US" sz="3600" spc="-1" strike="noStrike" u="sng">
              <a:solidFill>
                <a:srgbClr val="3333cc"/>
              </a:solidFill>
              <a:uFillTx/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onnect PC sound card line out to stereo receiver / am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use PC’s CD-ROM as CD Play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play music files (MP3, WMA, WAV) from PC hard dis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onnect stereo receiver / amp to PC sound card line in for recording from various inputs (FM, cable sound, phono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use the PC as a gaming conso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V tuner / video card, can use PC as a digital video recorder, play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180C-9B08-4A91-B903-1441E200CC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Arial"/>
              </a:rPr>
              <a:t>Entertainment Center Hookups</a:t>
            </a:r>
            <a:endParaRPr b="1" lang="en-US" sz="3600" spc="-1" strike="noStrike" u="sng">
              <a:solidFill>
                <a:srgbClr val="3333cc"/>
              </a:solidFill>
              <a:uFillTx/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666880" y="2163600"/>
            <a:ext cx="3810240" cy="1037160"/>
            <a:chOff x="2666880" y="2163600"/>
            <a:chExt cx="3810240" cy="1037160"/>
          </a:xfrm>
        </p:grpSpPr>
        <p:sp>
          <p:nvSpPr>
            <p:cNvPr id="51" name=""/>
            <p:cNvSpPr/>
            <p:nvPr/>
          </p:nvSpPr>
          <p:spPr>
            <a:xfrm>
              <a:off x="2743200" y="236232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43200" y="297180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267080" y="2666880"/>
              <a:ext cx="198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038480" y="2362320"/>
              <a:ext cx="22860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4038120" y="2666880"/>
              <a:ext cx="2286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666880" y="2163600"/>
              <a:ext cx="15242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CA Phono (Lef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666880" y="2925720"/>
              <a:ext cx="15242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CA Phono Righ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95680" y="2392200"/>
              <a:ext cx="1981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ereo Mini Jack (L/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2666880" y="3535200"/>
            <a:ext cx="4030920" cy="1083240"/>
            <a:chOff x="2666880" y="3535200"/>
            <a:chExt cx="4030920" cy="1083240"/>
          </a:xfrm>
        </p:grpSpPr>
        <p:sp>
          <p:nvSpPr>
            <p:cNvPr id="60" name=""/>
            <p:cNvSpPr/>
            <p:nvPr/>
          </p:nvSpPr>
          <p:spPr>
            <a:xfrm>
              <a:off x="2751120" y="3780000"/>
              <a:ext cx="1287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743200" y="4389480"/>
              <a:ext cx="1295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267080" y="4084560"/>
              <a:ext cx="198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3780000"/>
              <a:ext cx="25416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4038480" y="4084560"/>
              <a:ext cx="25416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66880" y="3535200"/>
              <a:ext cx="15242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CA Phono (Lef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666880" y="4343400"/>
              <a:ext cx="1676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CA Phono (Righ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95680" y="3809880"/>
              <a:ext cx="2202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ereo Mini Jack (L/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3276720" y="4876920"/>
            <a:ext cx="1371600" cy="954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52880" y="4648320"/>
            <a:ext cx="1067040" cy="51876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F Modul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990720" y="1523880"/>
            <a:ext cx="1676160" cy="4343400"/>
            <a:chOff x="990720" y="1523880"/>
            <a:chExt cx="1676160" cy="4343400"/>
          </a:xfrm>
        </p:grpSpPr>
        <p:sp>
          <p:nvSpPr>
            <p:cNvPr id="71" name=""/>
            <p:cNvSpPr/>
            <p:nvPr/>
          </p:nvSpPr>
          <p:spPr>
            <a:xfrm>
              <a:off x="990720" y="1523880"/>
              <a:ext cx="1676160" cy="43434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142640" y="2335320"/>
              <a:ext cx="1371240" cy="6300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ux 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42640" y="3782880"/>
              <a:ext cx="1371240" cy="6300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42640" y="5016600"/>
              <a:ext cx="1371240" cy="6300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ux 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142640" y="1600200"/>
              <a:ext cx="137124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ceiver /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mplifi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6400800" y="1600200"/>
            <a:ext cx="1905120" cy="4267080"/>
            <a:chOff x="6400800" y="1600200"/>
            <a:chExt cx="1905120" cy="4267080"/>
          </a:xfrm>
        </p:grpSpPr>
        <p:sp>
          <p:nvSpPr>
            <p:cNvPr id="77" name=""/>
            <p:cNvSpPr/>
            <p:nvPr/>
          </p:nvSpPr>
          <p:spPr>
            <a:xfrm>
              <a:off x="6400800" y="1600200"/>
              <a:ext cx="1905120" cy="426708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553080" y="2259000"/>
              <a:ext cx="1600200" cy="6300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ound Ca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put J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553080" y="3706920"/>
              <a:ext cx="1600200" cy="6300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ound Ca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ine Input J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553080" y="4648320"/>
              <a:ext cx="1600200" cy="95436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C Vide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TSC J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48x4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58000" y="1752480"/>
              <a:ext cx="990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 flipH="1">
            <a:off x="601956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648320" y="4952520"/>
            <a:ext cx="30456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4320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647960" y="5181480"/>
            <a:ext cx="19047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51AE-7FBF-41E3-8E3C-E93A71EE64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Arial"/>
              </a:rPr>
              <a:t>December Web Links</a:t>
            </a:r>
            <a:endParaRPr b="1" lang="en-US" sz="3600" spc="-1" strike="noStrike" u="sng">
              <a:solidFill>
                <a:srgbClr val="3333cc"/>
              </a:solidFill>
              <a:uFillTx/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240" y="182880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oad Musicmatch: 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Arial"/>
                <a:hlinkClick r:id="rId1"/>
              </a:rPr>
              <a:t>http://www.MusicMatch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oad WinAmp: 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Arial"/>
                <a:hlinkClick r:id="rId2"/>
              </a:rPr>
              <a:t>http://www.winamp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Music CD sour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8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secondspin.com   (used CDs, great pri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8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bay.com  (used CDs, very good pri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8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half.com  (by E-Bay - used CDs, very good pri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oadable Music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8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music.c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8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mp3.c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table repair par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8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TurntableBasics.c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3792-528F-4E85-87B3-EDE3D21E80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Digital Music S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 and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7978-D1AD-425D-B0DE-8E25150D86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5T19:48:51Z</dcterms:created>
  <dc:creator>Tom Burt</dc:creator>
  <dc:description/>
  <dc:language>en-US</dc:language>
  <cp:lastModifiedBy>Jean-Pierre Denis</cp:lastModifiedBy>
  <dcterms:modified xsi:type="dcterms:W3CDTF">2002-12-20T02:17:47Z</dcterms:modified>
  <cp:revision>322</cp:revision>
  <dc:subject/>
  <dc:title>Windows XP What Is It?</dc:title>
</cp:coreProperties>
</file>