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BA0-1EA0-4A92-8B65-0C01341B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B29-ACF0-45CD-8907-BFFA711C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67A-129A-4BF7-AE43-828F4D49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4D6-DB8B-4610-ABAB-AAD9A624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0E5-7A7C-487C-B562-AD71F5E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73D-6BCB-4783-82A4-C2F6659B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FDE-DDF0-44BF-9283-E832F98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A44-1209-42E9-B0DD-B63485A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410-9F99-4758-AC7C-C8366A2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0E4-E525-459A-8227-4406589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586-35D4-4871-9195-3E16B55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662-BDD0-4FC9-9C29-17B5C38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Click to edit the title text format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SCC - Tom B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E2A-A920-4913-831A-0634C578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usicmatch.com/" TargetMode="External"/><Relationship Id="rId2" Type="http://schemas.openxmlformats.org/officeDocument/2006/relationships/hyperlink" Target="http://www.audiograbber.com-us.net/" TargetMode="External"/><Relationship Id="rId3" Type="http://schemas.openxmlformats.org/officeDocument/2006/relationships/hyperlink" Target="http://www.audiograbber.com-us.net/" TargetMode="External"/><Relationship Id="rId4" Type="http://schemas.openxmlformats.org/officeDocument/2006/relationships/hyperlink" Target="http://www.secondspin.com/" TargetMode="External"/><Relationship Id="rId5" Type="http://schemas.openxmlformats.org/officeDocument/2006/relationships/hyperlink" Target="http://www.ebay.com/" TargetMode="External"/><Relationship Id="rId6" Type="http://schemas.openxmlformats.org/officeDocument/2006/relationships/hyperlink" Target="http://www.half.com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n City Summerlin Computer Club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gital Music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IG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rch 20, 2003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B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945-F1DF-458A-B5BB-F18AC4B3D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Agenda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20574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&amp; General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table discussion,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(45 min) MIDI and Kara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sound card as a music synthes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– MIDI to Digital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I Ba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aok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Web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o Find MIDI and Karaok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361-815C-4C51-84DB-D93859294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igital Music S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E91-E678-4001-A737-F47034E33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ound Card As Synthesizer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puter.howstuffworks.com/sound-car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create analogue stereo sound from digital output strea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 to 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convert analogue stereo in to a digital sound input strea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to 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programmable sound synthesiz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and richness of voices 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MIDI music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table synthesizer is best (very realis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CD drive so PC can “play” music C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 has line in, line / speaker out, and microphone j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0EC-A067-4BFE-A36E-15A04690A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MIDI Files vs Digital Music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music files (.WAV, .MP3, .C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 sound as a digital stream sampled 44,100 times per second for each of two stereo tra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6 MB of disk space per minute of sound in .WAV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high fide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d via the D to A converter of the sound c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 and Karaoke files (.MID, .K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I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c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trument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e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 sound as a set of commands to the synthesi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 are relatively small (e.g. 100 KB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nd not as rich – depends on the sound card’s synthesi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6 concurrent possible instrement “voices”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mental only – no human sin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2D0-297B-4667-A99E-E8FC825750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MIDI Basics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DI file can have up to 16 concurrent “tracks” (instruments) play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ck has a sequence of discrete notes of some d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play middle C for one half a sec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play G above middle C for one sec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ck selects the instrumental sound (e.g. guitar, piano, violi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I standard now includes 100s of instrumental sou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I includes drum tra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 files must be “played” by a MIDI player (a “sequencer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Media Player includes a MIDI seque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 files are “composed” using special software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oke files are MIDI files with the lyrics embedded along with ti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oke files must be played with a Karaoke p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8E6-89C7-4E57-ACCB-DD246D4AD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Demo of MIDi and Karaoke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ing some MIDI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a .MP3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ing some Karaok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o find MIDI and Karaoke music on-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A99-21AA-4B20-948C-BB6DD4018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March Web Links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Musicmatch: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hlinkClick r:id="rId1"/>
              </a:rPr>
              <a:t>www.MusicMat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Grabber: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hlinkClick r:id="rId2"/>
              </a:rPr>
              <a:t>http://www.audiograbber.com-us.net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Van Basco: http://www.vanbasco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Karaoke: http://www.sonic.net/~fli/wink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Karaoke: http://www.freekaraok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OZ.Org MIDI: http://dmoz.org/Arts/Music/Sound_Files/MID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MIDIs: http://www.findmid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Used Music CD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Arial"/>
                <a:hlinkClick r:id="rId4"/>
              </a:rPr>
              <a:t>www.secondspin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used CDs, great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Arial"/>
                <a:hlinkClick r:id="rId5"/>
              </a:rPr>
              <a:t>www.ebay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sed CDs, very good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Arial"/>
                <a:hlinkClick r:id="rId6"/>
              </a:rPr>
              <a:t>www.half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by E-Bay - used CDs, very good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86B-8564-4E5C-B8FE-190B6EB9A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9:48:51Z</dcterms:created>
  <dc:creator>Tom Burt</dc:creator>
  <dc:description/>
  <dc:language>en-US</dc:language>
  <cp:lastModifiedBy>Jean-Pierre Denis</cp:lastModifiedBy>
  <dcterms:modified xsi:type="dcterms:W3CDTF">2003-03-18T13:14:11Z</dcterms:modified>
  <cp:revision>355</cp:revision>
  <dc:subject/>
  <dc:title>Windows XP What Is It?</dc:title>
</cp:coreProperties>
</file>